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B87C3-6B6D-414C-A983-D6397456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04D9F-1C79-4AA2-BAEC-7ABE431B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07D7B-23A5-4968-931D-82380B52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DC8D3-7C4D-426B-9FC7-AF9A35E1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EFBC5-2262-420A-9DD1-78D686D8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128C8-59CB-4DBB-9910-B75EDF2E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10E6A-7908-45CF-8641-705498F3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583EB-AA52-4C7D-B519-56C3D0772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ADC71-3127-4959-965B-C99434F71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D669A-3A97-4896-88CA-69E606F7B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225D8-4470-43E3-AD51-B5A629FE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615B6-BC27-47F0-8037-88680FC1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CDE10-BE4E-4847-9DBE-C66311AF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389E8-C605-47F1-8040-AF780F71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DC53A-86C7-4928-92EA-AEB10B35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029C1-40FA-48AE-BB65-CB794A33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5C4FDF-2D90-4CD5-A3C0-54597706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4ADDC-6521-4D8F-85C1-D8342DE4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3ECE1-5076-4EAF-8F8A-65CAB125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9D85C-4B6A-44DD-92B8-4B8DBFF2F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17761-FF9D-45D9-8CC6-DCBC6F9AA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5F323-A552-4B74-AC0C-278D3EE7F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3361F-6357-415D-96F7-F2E7A704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8769B8-FA42-44D4-9431-F50BCA28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337F1-E8CE-45E8-99EA-7B330CE7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C1929-A63E-4F3B-A3D3-27E348F5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FFB8D-71E4-4558-AD86-8C4857D6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6DCD3-5301-42DF-A504-7F85CFFC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2571B-5166-454C-9237-D40E6C99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7C55A-3E08-4C3B-B8BE-C6BA8647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73B6-0D92-49C9-9FDE-DCE77CD8A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C111A-AB7B-4293-86F1-8804EF20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0C390-1826-4454-BCF2-6151E6EDA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E0E51E-1074-446E-92BD-9D4AD4249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54AED-FAE0-49BA-B274-EC2AEE14C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ADAC1-D697-48F9-B253-BE3D3A4C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3CEF0-D789-4C95-A81E-A297F3B9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2E556-3A42-4DC5-A51B-3D04FE83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B6A20-1488-4B1F-A178-5B719CFC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1FC63-D357-4B33-8FBC-B1C2B7C7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10734-5C16-4B9E-BB28-FA9E103C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5A46-2B7B-43CA-8034-DA1DA7A2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E5308-9058-4268-934C-1119B405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72A62-936A-40C3-90CD-9EC9A0CA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3FBF9-98A3-4CBC-A243-D3415F6C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591AF-D5D4-4310-A23C-E1DB0840B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9AB11-0894-405D-89A9-8FF0C679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2497-188C-4AE9-96AC-79BE1602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D68F-1EA9-44E5-9C6F-E5CAF005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93F9-09E1-4ACB-A09D-6D473240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4FF2-830E-4C4E-B419-2B4E2299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77F4-E27D-42AD-8838-571D2CC0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0079-88E6-4B9F-88A8-A6C53D8C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4222-02E8-48A9-B021-285784E0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F932-6745-42AF-B15E-5C6BF484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54AB-D665-4635-AEA7-B27BC901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87C5-546B-48FB-B022-FC54648C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6308-0852-4589-9828-F8F12E9B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B5C4-10F4-4A99-87A9-66BE4CD0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4C0D-9F22-49C4-909E-A3CF3B50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092A-69C5-412F-A06B-58CBB49B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B838-B7C7-427F-992A-A4E076F0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5ED8-B8C5-48E5-BB1F-BE928A64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C9D2-8522-4A04-8622-355C5072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1395-320F-4067-936B-71D10965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F2B0-60C6-43C5-812D-A14F0F87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CE30-3994-40B6-BA95-F964E9DE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6EE8-9FEA-4FF8-98CD-68C2429C0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320E-1B91-4EB7-9E9E-FB496DD59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A5891-044B-4D04-88A8-EE975E205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7C117-A35D-43BF-A01D-228F8617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0C5CA-923F-4FF7-9E01-34652324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96215-2BF8-437C-B5F8-A166F39D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8C174-86C4-4620-8AEF-1617CF56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7B6E8-4571-4AE7-B861-9FD8D192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9552D-1560-4297-AED8-6EE6BEBC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7C7A0-4474-4713-946A-D834E11F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3602B-3F8B-4A4F-BAD7-F8F77991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5329A-275A-47E4-BBE4-51B84085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256A8-8912-4F3E-815F-162FFB84F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B751F-BD75-4F30-9456-FFE40C954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1590A-9277-4031-BE9E-C0411899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F2268-35B9-44E1-A7F0-44BA4BCF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DEB92-C640-4304-81D6-9D5821F5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51649-8DFD-4F0C-A8D3-D8B8E0AF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A6A88-B04B-4A01-9A6C-D3FD5EE8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1BB1F-94AD-4037-ACBF-5A841CB1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9CBCF-525F-4056-A619-A12AE35A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DF46D-C6D4-4BA7-99AE-8922424F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C6512-991F-402A-9098-48EB9753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C1424-A0F0-47BE-954C-34E5FCFE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65CBF-0C8C-4B0D-A67A-B46DD1E9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DD6BA-8AA2-4F88-B882-C4E33D7C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46271-EDF0-47A3-81C4-B5EB578F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1AA3A-820B-4374-9230-66F621D9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916F3-CB42-4F86-AF9C-96030794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74C69-6024-43E8-A55D-5A73BCC5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A4792-84B6-4549-A315-BE578C13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AB2A7-11E7-43C4-BD88-313A0DA2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877E9-45CF-4B12-8340-F3EFACA6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56320-58D8-4C70-BD1A-46CA40E6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71CDB-DA17-4478-9939-9E14EC62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C1D29-2131-4928-B71E-1467199C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C3280-F196-41A6-95ED-AA2A60A4D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C6236-603A-48A1-A946-F9D21234B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1E7E9-0CF3-494B-B86A-31B0968C0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3A019-1D6A-4414-A337-82AE77CF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27142-23EF-44B0-931F-7C1A6223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94825-CB55-4907-B217-BF762D2B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3C7FE-2235-4420-ABF5-0B4AECA6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C9EE7-590A-436E-BF68-4DEA0E70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42022-E347-4D7F-BD4D-F86184DD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80BA6-3358-400F-9A3B-C007CEF2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DAEC1-D169-46A2-BD4D-39A2EFE8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B0FCB-BE87-494C-98A7-7323A0E6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AF821-FF9B-41B6-9F1C-66C128721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3A4E6-2A82-461E-B8C6-FF9FC9012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199D5-3E81-41C5-9161-5C03B23F7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9A208-6D6A-4D38-AB3E-4A9F1433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95920-C2E5-4FEB-80EC-41306284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ABCF4-55CD-4FB5-AA29-1FCC8E20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75D17-3797-4161-852F-4F595FB6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35348-F65F-41E8-9948-BAD72F1C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987A3-0166-425C-A136-A9915A15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02007-647D-47AB-968B-09B93B7D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1C8F4-23CA-42C2-B50D-5D760898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2C619-DB4C-4D08-A3B9-5608D39D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A539F-5199-4AB1-9BE4-1DCC549E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921B0-59C5-4E6E-81E3-F3EAD8B4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45DEF-B1CA-4DB6-A6D6-F63BAD1B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B22D8-5D2A-471C-821A-D3E2629C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75606-1C71-47C0-8B22-72B8A92B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DD78-445F-45A3-973F-1729EB090184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784B-BC15-442A-985C-020714D4683B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7656-4E66-4C2E-9450-17E24FB8E02B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000F-2BF5-4DFC-9869-E8766C564E18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6830-27A8-4D8E-B8AA-8C905B002F40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E921-7C40-4E8F-AFD1-147A9EBF145F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A9F1-2299-4917-8AF6-28431C6750CE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6ED3-118E-4E28-BFE3-4990BCFB2B09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3EED-2F93-473A-9D28-49D847A66C08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091F-B297-4B87-ACC3-5F74B01F1AA6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559A-C556-413C-9559-3E9A12DA9300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Marcador de contenido 3" descr=""/>
          <p:cNvPicPr/>
          <p:nvPr/>
        </p:nvPicPr>
        <p:blipFill>
          <a:blip r:embed="rId1"/>
          <a:stretch/>
        </p:blipFill>
        <p:spPr>
          <a:xfrm>
            <a:off x="-108000" y="189000"/>
            <a:ext cx="92520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7:10:58Z</dcterms:created>
  <dc:creator>Pamela Jaramillo</dc:creator>
  <dc:description/>
  <dc:language>en-US</dc:language>
  <cp:lastModifiedBy>Miriam Perez</cp:lastModifiedBy>
  <dcterms:modified xsi:type="dcterms:W3CDTF">2016-05-13T05:10:38Z</dcterms:modified>
  <cp:revision>374</cp:revision>
  <dc:subject/>
  <dc:title>Diapositiva 1</dc:title>
</cp:coreProperties>
</file>